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CB8-AC00-4314-8089-0E7FE09A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FD2-19A6-4A02-B359-57D3A19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0F7-E773-4E18-B8B7-D299D8B2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BE3-9296-4E41-B4C6-D6BC0521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F24-62A9-409F-8ED3-41214FB9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B8C-9E2E-40B3-8CA5-9DCB8DB0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EB5-D842-4131-8DC9-311DC2D5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A47-1520-4331-A2FD-7583094A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FF5-E7AA-4A04-B35E-A65B599A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B72-57EA-4EE3-9F64-4C31B9D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DF8-AB35-4915-AAA7-6D13D87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1BF-3B2B-4E4A-B0FF-B9CE1046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831A-9CD5-4FEC-B526-CA7E8E5CA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5320" y="387360"/>
          <a:ext cx="81727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87360"/>
                    <a:ext cx="81727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n "filas" y 4 "column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primer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lista con sección, nombre y 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 [linea[0],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a[1:21],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(linea[21:23])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segundo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 en lista alumnos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lumno[1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nota a lista de 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.append(int(linea[21:23]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468360" y="404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lista por sección y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y guardar planilla final orde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“planilla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alumno[2]+alumno[3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alumno[0]+ 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[1]+ 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2])+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3])+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lución 2: Con lista de 8 listas (una por se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8 listas (inicialmente vac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primer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indice de lista de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(linea[0])-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[nombre,nota] a lista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.append([linea[1:21],int(linea[21:23]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24000" y="18900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segundo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indice de lista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ec=int(linea[0])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 en lista de la se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[isec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lumno[0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nota a lista de alumno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.append(int(linea[21:23]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Rectángulo"/>
          <p:cNvSpPr/>
          <p:nvPr/>
        </p:nvSpPr>
        <p:spPr>
          <a:xfrm>
            <a:off x="179280" y="1159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bar plan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"planilla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orrer indices de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lista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ccion=L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lista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ccion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orrer alumnos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s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bar datos del alumno en planilla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alumno[1]+alumno[2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str(i+1)+alumno[0]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1])+str(alumno[2])+  \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090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090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83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03T19:15:26Z</dcterms:modified>
  <cp:revision>110</cp:revision>
  <dc:subject/>
  <dc:title>Sin título de diapositiva</dc:title>
</cp:coreProperties>
</file>